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7A7D-CD36-4C41-83F2-F2C7C8D0758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A25-5868-4F83-97E7-ECD8974BC8C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9CA1-37F0-49C1-B2F9-D1CBB242838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5282-60FB-424B-8F30-44699CE66E3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AEE0-1893-4274-8307-2E6AADAE8B6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7A7C-335B-4F0F-A822-B5867A7CDEB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BF23-7BFC-4CE2-880E-D999CDFA0CB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984-7ACF-4C89-A014-E8F815C4ADC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9C1D-99A3-4FF6-A9A4-8559EF8AE63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1CCD-383F-4976-B66D-9D8BBEFD0EE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C4D0-99F4-4697-86D9-F04DE3F3C32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F58-0F00-417C-AA67-286BA808EAD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008-0D79-4760-B835-11B5E26AA9C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54FE-E2A4-4E06-8086-9B778F4C203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6709-461B-4664-9E33-739DFBCCF8F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6C6A-5697-450E-938E-AAB8BEA67F8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F5D-0E21-4772-ABD3-18C58409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C7E-1B2D-4182-95D3-32460D8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B94-CE91-4909-850B-CF427B27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33D-60F2-4C18-82D1-3D24A144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7DB-4DDC-4405-AEE0-D0129AB3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A774-5D7B-4759-A181-EE3AF364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BA45-A744-4BA0-A749-92B5A03E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C0C8-1E3D-46D4-A800-E0C94464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265B-3F85-4C81-B360-1FB4BFA0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0A87-FCA0-49B4-A574-26075C80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6A14-8B80-4C0A-BBD6-3D1D95C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B79-EEB0-4D98-A7C2-930F9AD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4CD-9EE2-4C69-A0A9-A93BD14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222D-DB7E-48C9-8201-460A429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A3D6-81A7-44F0-9D99-FE45DABA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9D56-4C25-40CD-888C-CFD3569B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DF90-031E-4C8D-A0A4-C118E386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62C-D584-42F3-A4A4-745CE890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28A-6D5A-4907-BF6B-48C471A5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6B5-6CC1-4BC6-9D56-EDC57017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A48-BDB9-48E3-BC0B-5C79FA2F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C2F-9C0F-4FC1-8A30-E9DB7B73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2B15-F27A-497F-A924-FE728DEE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A9A-CE9C-40EE-BE5A-DFEC6C59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FB12-12F3-4A9C-B6F4-E247961AC193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2"/>
          <p:cNvSpPr/>
          <p:nvPr/>
        </p:nvSpPr>
        <p:spPr>
          <a:xfrm>
            <a:off x="-36360" y="907920"/>
            <a:ext cx="9144000" cy="0"/>
          </a:xfrm>
          <a:prstGeom prst="line">
            <a:avLst/>
          </a:prstGeom>
          <a:ln w="63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Pytheas\Desktop\Working stuff\CerOrganic\logo-tr.gif"/>
          <p:cNvPicPr/>
          <p:nvPr/>
        </p:nvPicPr>
        <p:blipFill>
          <a:blip r:embed="rId2"/>
          <a:stretch/>
        </p:blipFill>
        <p:spPr>
          <a:xfrm>
            <a:off x="7026120" y="27000"/>
            <a:ext cx="207648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LLP-logo.jpg"/>
          <p:cNvPicPr/>
          <p:nvPr/>
        </p:nvPicPr>
        <p:blipFill>
          <a:blip r:embed="rId3"/>
          <a:stretch/>
        </p:blipFill>
        <p:spPr>
          <a:xfrm>
            <a:off x="0" y="189000"/>
            <a:ext cx="1857240" cy="65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C4D3-1E9E-4B81-A298-9A5B023BC8F3}" type="slidenum">
              <a:rPr b="0" lang="el-G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rOrganic Training Curricul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2 - Θέση περιεχομένου"/>
          <p:cNvSpPr/>
          <p:nvPr/>
        </p:nvSpPr>
        <p:spPr>
          <a:xfrm>
            <a:off x="826920" y="4786200"/>
            <a:ext cx="74980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04387-LLP-1-2009-1-GR-LEONARDO-L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-funded by the European Un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rough the Leonardo da Vinci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1 - Τίτλος"/>
          <p:cNvSpPr/>
          <p:nvPr/>
        </p:nvSpPr>
        <p:spPr>
          <a:xfrm>
            <a:off x="468360" y="23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Calibri"/>
              </a:rPr>
              <a:t>Module CXX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3500280"/>
            <a:ext cx="7497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Calibri"/>
              </a:rPr>
              <a:t>Unit CXXX.X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 Conclu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.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summary in bullet points of the most important themes of the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86240" y="650088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. Re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680" y="1643040"/>
            <a:ext cx="8424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ic bibli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mandatory reference material that is provided  or available from open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mentary bibliograph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details of non-compulsary  reading mate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pages / l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links to relevant / interesting web p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648828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iii. Evaluation of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714320"/>
            <a:ext cx="84247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unit contributes to Assignment X (X = 1 or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ease provide any means for the assessment of learning, provided for use during this unit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13336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dicate any conne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ollowing un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786200" y="65008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179280" y="243036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re information on unit CXXX.X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7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please provide a contact emai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5143680" y="648828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u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400" y="1500120"/>
            <a:ext cx="8280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tor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ims &amp;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rning outcomes &amp; skil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hodology &amp; 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ain P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i.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00000" indent="-5000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valuation of lear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492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CXXX.X,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6048360" y="6505560"/>
            <a:ext cx="30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tor name,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. Tut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197000"/>
            <a:ext cx="842472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clude a short CV, focusing on experience, skills and competences related to the un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000680" y="648828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. Aims &amp;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aims &amp; objectives of this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572080" y="64882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ii. Learning outcomes &amp;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learning outcomes &amp; skill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29160" y="65008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717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iv. Methodology &amp;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describe the methodology and contents of the uni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described in the unit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786200" y="6488280"/>
            <a:ext cx="43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Main pa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00076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71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. 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680" y="2643120"/>
            <a:ext cx="84247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provide a glossary of any unfamiliar terms introduced in this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929120" y="64882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ii. 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insert the slides of y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 presentation he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4643280" y="65008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CXXX, Unit CXXX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8:35:36Z</dcterms:created>
  <dc:creator>ΜΠΑΜΠΗΣ</dc:creator>
  <dc:description/>
  <dc:language>en-US</dc:language>
  <cp:lastModifiedBy>koubouris</cp:lastModifiedBy>
  <dcterms:modified xsi:type="dcterms:W3CDTF">2011-03-31T11:39:57Z</dcterms:modified>
  <cp:revision>114</cp:revision>
  <dc:subject/>
  <dc:title>Organic.BalkaNet</dc:title>
</cp:coreProperties>
</file>